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AutoShape 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07720" y="812520"/>
            <a:ext cx="5335560" cy="40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55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27492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 type="dt" idx="13"/>
          </p:nvPr>
        </p:nvSpPr>
        <p:spPr>
          <a:xfrm>
            <a:off x="4277880" y="0"/>
            <a:ext cx="327492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 type="ftr" idx="14"/>
          </p:nvPr>
        </p:nvSpPr>
        <p:spPr>
          <a:xfrm>
            <a:off x="-36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 type="sldNum" idx="15"/>
          </p:nvPr>
        </p:nvSpPr>
        <p:spPr>
          <a:xfrm>
            <a:off x="427788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01040"/>
                <a:tab algn="l" pos="9848880"/>
                <a:tab algn="l" pos="10296360"/>
                <a:tab algn="l" pos="107442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01040"/>
                <a:tab algn="l" pos="9848880"/>
                <a:tab algn="l" pos="10296360"/>
                <a:tab algn="l" pos="10744200"/>
              </a:tabLst>
            </a:pPr>
            <a:fld id="{54536A8D-2C4C-419A-9D7D-C067895307A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01040"/>
                <a:tab algn="l" pos="9848880"/>
                <a:tab algn="l" pos="10296360"/>
                <a:tab algn="l" pos="10744200"/>
              </a:tabLst>
            </a:pPr>
            <a:fld id="{FB6D988F-995E-43F1-9B3F-C10D29C80FB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01040"/>
                <a:tab algn="l" pos="9848880"/>
                <a:tab algn="l" pos="10296360"/>
                <a:tab algn="l" pos="10744200"/>
              </a:tabLst>
            </a:pPr>
            <a:fld id="{47E567D3-4DB0-46E2-B135-348993C153E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01040"/>
                <a:tab algn="l" pos="9848880"/>
                <a:tab algn="l" pos="10296360"/>
                <a:tab algn="l" pos="10744200"/>
              </a:tabLst>
            </a:pPr>
            <a:fld id="{05C1D17A-EBE8-4944-88CE-C88052F53E6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B8FB-5C7A-4079-8F30-8D37ED584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3280" y="466092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42C6-5076-40FB-B4CC-D7AD2DCB4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304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ADF5-8062-4FF1-9B91-0CEBE65DA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984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328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984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DD8E-13A2-4A4E-8322-F09661966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AA9DE-FA5F-460B-A84F-920964297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99285-1EDC-4D43-8A6B-C846EB151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6E2F5-54E1-4821-9ED8-3932BF31A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67C32-9ABF-4B70-B50A-D5F9F2A2A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224A8-FB55-4A4A-82E9-B79E1C4A2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3280" y="776160"/>
            <a:ext cx="907416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D283C-B7A2-4D85-904E-1832E618A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1F99B-EFDB-4374-B8A1-1072E0DE9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1C69-DD58-43E6-9B25-C90D4412C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304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2A592-A6BB-4594-95DF-E294CBE97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560F3-1406-4D20-85A9-AAF3B8506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3280" y="466092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1B249-8E9F-4F55-ACB7-52552AF65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304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3AF0B-DC9A-4998-BC30-E1965C90B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984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328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984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97332-350B-405D-90C8-694FEF336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992FA0-6BA5-44DB-9496-7CC067C30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BF65AC-27FE-47E6-9305-389A8C066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5003A7-92AB-49AE-B02C-918BE7872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A06894-8C53-4418-9CAE-864CFD20E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66A759-D425-4C87-AB93-16A93E0D7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6A42-0BB6-4FB1-8179-165BC8751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503280" y="776160"/>
            <a:ext cx="907416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038D80-1848-4D42-9239-61CA16741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8746A0-D228-4B70-A367-F9903D4DC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15304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255CCE-4431-46FB-93C9-995748C20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DA83E9-5283-43AF-8BBF-D81A27043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03280" y="466092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1A5FDE-7016-4451-841D-C66064BC4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515304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3D56F3-064F-4181-B041-2DCDC1B57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57156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63984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50328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57156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63984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FE3783-95DE-4B0E-9C6F-358744602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905FFA-CC9A-46E3-8DEA-2ABED39DA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DBA71C-8E77-412E-AE86-F935B507D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4C1D90-3367-48E3-B1E4-7AEEB8F6D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C0CC-F1C5-478F-8856-DCA154E74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08B6D4-B45C-4E36-A2AE-F1AD632EC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44B299-5E81-4C14-8A02-0B241276B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503280" y="776160"/>
            <a:ext cx="907416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F59E44-3A1E-483F-8641-05B6FB307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7CBBF9-5DD5-4B74-9FB5-02C45E34D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15304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5E47BD-8707-4D0B-BEA9-2BEAE9D05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C20662-107F-4678-A0CF-102457AFA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03280" y="466092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FF605B-7FFB-4C10-8E80-B1527E1A4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515304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ED0681-4793-414E-96B9-2947C8740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57156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639840" y="213336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50328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57156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639840" y="4660920"/>
            <a:ext cx="29217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BBC58E-E062-4858-925A-F421633AC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9DC9-84F0-4B4C-A0A9-C5E84721C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3280" y="776160"/>
            <a:ext cx="907416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91A4-6629-4F33-A7A8-5CEB8AE9E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5AF3-6248-4816-9006-0ED8313B3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3040" y="466092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B2F3-EEB8-4D87-9DA2-432430AFA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328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3040" y="2133360"/>
            <a:ext cx="442800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3280" y="4660920"/>
            <a:ext cx="9074160" cy="2307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A046-CECD-458B-BD50-69C6096F1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11160" y="-7920"/>
            <a:ext cx="10103040" cy="1147680"/>
          </a:xfrm>
          <a:custGeom>
            <a:avLst/>
            <a:gdLst>
              <a:gd name="textAreaLeft" fmla="*/ 0 w 10103040"/>
              <a:gd name="textAreaRight" fmla="*/ 10103040 w 10103040"/>
              <a:gd name="textAreaTop" fmla="*/ 0 h 1147680"/>
              <a:gd name="textAreaBottom" fmla="*/ 1148040 h 11476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830840" y="-7920"/>
            <a:ext cx="5249880" cy="703080"/>
          </a:xfrm>
          <a:custGeom>
            <a:avLst/>
            <a:gdLst>
              <a:gd name="textAreaLeft" fmla="*/ 0 w 5249880"/>
              <a:gd name="textAreaRight" fmla="*/ 5250240 w 5249880"/>
              <a:gd name="textAreaTop" fmla="*/ 0 h 703080"/>
              <a:gd name="textAreaBottom" fmla="*/ 703440 h 7030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7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1" marL="704880" indent="-271440">
              <a:spcBef>
                <a:spcPts val="72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1006560" indent="-271440">
              <a:spcBef>
                <a:spcPts val="72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3" marL="1309680" indent="-231840">
              <a:spcBef>
                <a:spcPts val="726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4" marL="1611360" indent="-231840">
              <a:spcBef>
                <a:spcPts val="726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5" marL="1611360" indent="-231840">
              <a:spcBef>
                <a:spcPts val="726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6" marL="1611360" indent="-231840">
              <a:spcBef>
                <a:spcPts val="726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50292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940120" y="7007040"/>
            <a:ext cx="369576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735760" y="7007040"/>
            <a:ext cx="84132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87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en-GB" sz="13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87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7F9695C8-B9DE-4772-ADB9-F4966A5FA055}" type="slidenum">
              <a:rPr b="0" lang="en-GB" sz="13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20520" y="223920"/>
            <a:ext cx="10120680" cy="714240"/>
            <a:chOff x="-20520" y="223920"/>
            <a:chExt cx="10120680" cy="71424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20520" y="223920"/>
              <a:ext cx="10102320" cy="714240"/>
              <a:chOff x="-20520" y="223920"/>
              <a:chExt cx="10102320" cy="71424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5400" y="223920"/>
                <a:ext cx="10076400" cy="714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20160" y="5266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20520" y="272880"/>
              <a:ext cx="10120680" cy="619920"/>
              <a:chOff x="-20520" y="272880"/>
              <a:chExt cx="10120680" cy="61992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2520" y="272880"/>
                <a:ext cx="10102680" cy="619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20160" y="5770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11160" y="-7920"/>
            <a:ext cx="10103040" cy="1147680"/>
          </a:xfrm>
          <a:custGeom>
            <a:avLst/>
            <a:gdLst>
              <a:gd name="textAreaLeft" fmla="*/ 0 w 10103040"/>
              <a:gd name="textAreaRight" fmla="*/ 10103040 w 10103040"/>
              <a:gd name="textAreaTop" fmla="*/ 0 h 1147680"/>
              <a:gd name="textAreaBottom" fmla="*/ 1148040 h 11476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830840" y="-7920"/>
            <a:ext cx="5249880" cy="703080"/>
          </a:xfrm>
          <a:custGeom>
            <a:avLst/>
            <a:gdLst>
              <a:gd name="textAreaLeft" fmla="*/ 0 w 5249880"/>
              <a:gd name="textAreaRight" fmla="*/ 5250240 w 5249880"/>
              <a:gd name="textAreaTop" fmla="*/ 0 h 703080"/>
              <a:gd name="textAreaBottom" fmla="*/ 703440 h 7030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20520" y="223920"/>
            <a:ext cx="10120680" cy="714240"/>
            <a:chOff x="-20520" y="223920"/>
            <a:chExt cx="10120680" cy="71424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20520" y="223920"/>
              <a:ext cx="10102320" cy="714240"/>
              <a:chOff x="-20520" y="223920"/>
              <a:chExt cx="10102320" cy="71424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5400" y="223920"/>
                <a:ext cx="10076400" cy="714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20160" y="5266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20520" y="272880"/>
              <a:ext cx="10120680" cy="619920"/>
              <a:chOff x="-20520" y="272880"/>
              <a:chExt cx="10120680" cy="61992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2520" y="272880"/>
                <a:ext cx="10102680" cy="619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20160" y="5770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5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7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1" marL="704880" indent="-271440">
              <a:spcBef>
                <a:spcPts val="72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2" marL="1006560" indent="-271440">
              <a:spcBef>
                <a:spcPts val="72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3" marL="1309680" indent="-231840">
              <a:spcBef>
                <a:spcPts val="726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4" marL="1611360" indent="-231840">
              <a:spcBef>
                <a:spcPts val="726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5" marL="1611360" indent="-231840">
              <a:spcBef>
                <a:spcPts val="726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6" marL="1611360" indent="-231840">
              <a:spcBef>
                <a:spcPts val="726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0292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940120" y="7007040"/>
            <a:ext cx="369576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735760" y="7007040"/>
            <a:ext cx="84132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87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en-GB" sz="13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lnSpc>
                <a:spcPct val="87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C8A1F398-867D-4C85-9BF4-D809815E0DF4}" type="slidenum">
              <a:rPr b="0" lang="en-GB" sz="13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11160" y="-7920"/>
            <a:ext cx="10103040" cy="1147680"/>
          </a:xfrm>
          <a:custGeom>
            <a:avLst/>
            <a:gdLst>
              <a:gd name="textAreaLeft" fmla="*/ 0 w 10103040"/>
              <a:gd name="textAreaRight" fmla="*/ 10103040 w 10103040"/>
              <a:gd name="textAreaTop" fmla="*/ 0 h 1147680"/>
              <a:gd name="textAreaBottom" fmla="*/ 1148040 h 11476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830840" y="-7920"/>
            <a:ext cx="5249880" cy="703080"/>
          </a:xfrm>
          <a:custGeom>
            <a:avLst/>
            <a:gdLst>
              <a:gd name="textAreaLeft" fmla="*/ 0 w 5249880"/>
              <a:gd name="textAreaRight" fmla="*/ 5250240 w 5249880"/>
              <a:gd name="textAreaTop" fmla="*/ 0 h 703080"/>
              <a:gd name="textAreaBottom" fmla="*/ 703440 h 7030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20520" y="223920"/>
            <a:ext cx="10120680" cy="714240"/>
            <a:chOff x="-20520" y="223920"/>
            <a:chExt cx="10120680" cy="71424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20520" y="223920"/>
              <a:ext cx="10102320" cy="714240"/>
              <a:chOff x="-20520" y="223920"/>
              <a:chExt cx="10102320" cy="71424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5400" y="223920"/>
                <a:ext cx="10076400" cy="714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20160" y="5266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20520" y="272880"/>
              <a:ext cx="10120680" cy="619920"/>
              <a:chOff x="-20520" y="272880"/>
              <a:chExt cx="10120680" cy="61992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2520" y="272880"/>
                <a:ext cx="10102680" cy="619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20160" y="5770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87000"/>
                  </a:lnSpc>
                  <a:tabLst>
                    <a:tab algn="l" pos="0"/>
                    <a:tab algn="l" pos="447840"/>
                    <a:tab algn="l" pos="895320"/>
                    <a:tab algn="l" pos="1343160"/>
                    <a:tab algn="l" pos="1790640"/>
                    <a:tab algn="l" pos="2238480"/>
                    <a:tab algn="l" pos="2685960"/>
                    <a:tab algn="l" pos="3133800"/>
                    <a:tab algn="l" pos="3581280"/>
                    <a:tab algn="l" pos="4029120"/>
                    <a:tab algn="l" pos="4476600"/>
                    <a:tab algn="l" pos="4924440"/>
                    <a:tab algn="l" pos="5372280"/>
                    <a:tab algn="l" pos="5819760"/>
                    <a:tab algn="l" pos="6267600"/>
                    <a:tab algn="l" pos="6715080"/>
                    <a:tab algn="l" pos="7162920"/>
                    <a:tab algn="l" pos="7610400"/>
                    <a:tab algn="l" pos="8058240"/>
                    <a:tab algn="l" pos="8505720"/>
                    <a:tab algn="l" pos="895356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5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7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1" marL="704880" indent="-271440">
              <a:spcBef>
                <a:spcPts val="72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2" marL="1006560" indent="-271440">
              <a:spcBef>
                <a:spcPts val="72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3" marL="1309680" indent="-231840">
              <a:spcBef>
                <a:spcPts val="726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4" marL="1611360" indent="-231840">
              <a:spcBef>
                <a:spcPts val="726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5" marL="1611360" indent="-231840">
              <a:spcBef>
                <a:spcPts val="726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  <a:p>
            <a:pPr lvl="6" marL="1611360" indent="-231840">
              <a:spcBef>
                <a:spcPts val="726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0292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940120" y="7007040"/>
            <a:ext cx="369576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8735760" y="7007040"/>
            <a:ext cx="84132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87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en-GB" sz="13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lnSpc>
                <a:spcPct val="87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5E439026-AC02-4E43-9D26-4785E6E4749D}" type="slidenum">
              <a:rPr b="0" lang="en-GB" sz="13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8"/>
          <p:cNvSpPr/>
          <p:nvPr/>
        </p:nvSpPr>
        <p:spPr>
          <a:xfrm flipV="1" rot="420000">
            <a:off x="3489120" y="1220400"/>
            <a:ext cx="5797440" cy="4537080"/>
          </a:xfrm>
          <a:custGeom>
            <a:avLst/>
            <a:gdLst/>
            <a:ahLst/>
            <a:rect l="l" t="t" r="r" b="b"/>
            <a:pathLst>
              <a:path w="5796359" h="4535805">
                <a:moveTo>
                  <a:pt x="0" y="0"/>
                </a:moveTo>
                <a:lnTo>
                  <a:pt x="5630984" y="0"/>
                </a:lnTo>
                <a:lnTo>
                  <a:pt x="5796359" y="165375"/>
                </a:lnTo>
                <a:lnTo>
                  <a:pt x="5796359" y="4535805"/>
                </a:lnTo>
                <a:lnTo>
                  <a:pt x="0" y="4535805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Right Triangle 11"/>
          <p:cNvSpPr/>
          <p:nvPr/>
        </p:nvSpPr>
        <p:spPr>
          <a:xfrm flipV="1" rot="420000">
            <a:off x="8823240" y="5907960"/>
            <a:ext cx="171360" cy="17136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0800" rIns="100800" tIns="5400" bIns="540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Freeform 9"/>
          <p:cNvSpPr/>
          <p:nvPr/>
        </p:nvSpPr>
        <p:spPr>
          <a:xfrm flipV="1">
            <a:off x="-10800" y="6411960"/>
            <a:ext cx="10103040" cy="1147680"/>
          </a:xfrm>
          <a:custGeom>
            <a:avLst/>
            <a:gdLst>
              <a:gd name="textAreaLeft" fmla="*/ 0 w 10103040"/>
              <a:gd name="textAreaRight" fmla="*/ 10103040 w 10103040"/>
              <a:gd name="textAreaTop" fmla="*/ 360 h 1147680"/>
              <a:gd name="textAreaBottom" fmla="*/ 1148400 h 11476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Freeform 10"/>
          <p:cNvSpPr/>
          <p:nvPr/>
        </p:nvSpPr>
        <p:spPr>
          <a:xfrm flipV="1">
            <a:off x="4830840" y="6855840"/>
            <a:ext cx="5249880" cy="703080"/>
          </a:xfrm>
          <a:custGeom>
            <a:avLst/>
            <a:gdLst>
              <a:gd name="textAreaLeft" fmla="*/ 0 w 5249880"/>
              <a:gd name="textAreaRight" fmla="*/ 5250240 w 5249880"/>
              <a:gd name="textAreaTop" fmla="*/ -360 h 703080"/>
              <a:gd name="textAreaBottom" fmla="*/ 703080 h 7030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440" rIns="100440" tIns="50040" bIns="5004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77616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503280" y="2133360"/>
            <a:ext cx="9074160" cy="483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7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1" marL="704880" indent="-271440">
              <a:spcBef>
                <a:spcPts val="72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1006560" indent="-271440">
              <a:spcBef>
                <a:spcPts val="72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3" marL="1309680" indent="-231840">
              <a:spcBef>
                <a:spcPts val="726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4" marL="1611360" indent="-231840">
              <a:spcBef>
                <a:spcPts val="726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5" marL="1611360" indent="-231840">
              <a:spcBef>
                <a:spcPts val="726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6" marL="1611360" indent="-231840">
              <a:spcBef>
                <a:spcPts val="726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50292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940120" y="7007040"/>
            <a:ext cx="369576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904240" y="7007040"/>
            <a:ext cx="673200" cy="40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87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en-GB" sz="13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87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11B874A6-59E0-4F2F-9ADC-7D4E1AF44046}" type="slidenum">
              <a:rPr b="0" lang="en-GB" sz="13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2"/>
          <p:cNvSpPr/>
          <p:nvPr/>
        </p:nvSpPr>
        <p:spPr>
          <a:xfrm>
            <a:off x="1584360" y="471600"/>
            <a:ext cx="7020000" cy="13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1" lang="en-GB" sz="7200" spc="-1" strike="noStrike">
                <a:solidFill>
                  <a:srgbClr val="355e00"/>
                </a:solidFill>
                <a:latin typeface="Bodoni MT Black"/>
              </a:rPr>
              <a:t>Tipologie Cani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Picture 3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0" y="5411880"/>
            <a:ext cx="1114560" cy="14284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4" descr="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8605800" y="900000"/>
            <a:ext cx="1114560" cy="14288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9" descr="http://2.bp.blogspot.com/-uzRYWfZAUqQ/UAUwwdrgl8I/AAAAAAAACmE/4hJfeW_ffno/s1600/dog-breeds.jpg"/>
          <p:cNvPicPr/>
          <p:nvPr/>
        </p:nvPicPr>
        <p:blipFill>
          <a:blip r:embed="rId3"/>
          <a:stretch/>
        </p:blipFill>
        <p:spPr>
          <a:xfrm>
            <a:off x="1111320" y="1662120"/>
            <a:ext cx="7494480" cy="5430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1" descr=""/>
          <p:cNvPicPr/>
          <p:nvPr/>
        </p:nvPicPr>
        <p:blipFill>
          <a:blip r:embed="rId1"/>
          <a:stretch/>
        </p:blipFill>
        <p:spPr>
          <a:xfrm>
            <a:off x="4680000" y="1434960"/>
            <a:ext cx="4962600" cy="446436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2"/>
          <p:cNvSpPr/>
          <p:nvPr/>
        </p:nvSpPr>
        <p:spPr>
          <a:xfrm>
            <a:off x="360360" y="900000"/>
            <a:ext cx="3959280" cy="553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1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mic Sans MS"/>
              </a:rPr>
              <a:t>Tipologia Braccoid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1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01040"/>
                <a:tab algn="l" pos="9848880"/>
                <a:tab algn="l" pos="10296360"/>
                <a:tab algn="l" pos="107442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1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testa di forma prismatica, con muso a facce laterali parallele, salto naso-frontale poco segnato; orecchie grandi e piatte sulle guance; labbra superiori abbondanti che coprono il profilo inferiore della mandibola. Rappresentanti del Gruppo sono: Bracco italiano, Dalmata, Setter, Retrievers, Cocker, ecc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1"/>
          <p:cNvSpPr/>
          <p:nvPr/>
        </p:nvSpPr>
        <p:spPr>
          <a:xfrm>
            <a:off x="5737320" y="1042920"/>
            <a:ext cx="3779640" cy="60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Tipologia Lupoide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01040"/>
                <a:tab algn="l" pos="9848880"/>
                <a:tab algn="l" pos="10296360"/>
                <a:tab algn="l" pos="107442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Testa a forma piramidale; orecchie erette e triangolari; muso allungato ed in rapporto di 1:1 col cranio; labbra superiori piccole e aderenti; dentatura con chiusura a forbice. Rappresentanti del Gruppo sono: Pastore tedesco, Pastore Belga, Chow Chow, Fox terrier, ecc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Picture 2" descr=""/>
          <p:cNvPicPr/>
          <p:nvPr/>
        </p:nvPicPr>
        <p:blipFill>
          <a:blip r:embed="rId1"/>
          <a:stretch/>
        </p:blipFill>
        <p:spPr>
          <a:xfrm>
            <a:off x="682560" y="1763640"/>
            <a:ext cx="4789440" cy="4032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tudente30</dc:creator>
  <dc:description/>
  <dc:language>en-US</dc:language>
  <cp:lastModifiedBy>MM</cp:lastModifiedBy>
  <dcterms:modified xsi:type="dcterms:W3CDTF">2014-04-01T08:41:23Z</dcterms:modified>
  <cp:revision>5</cp:revision>
  <dc:subject/>
  <dc:title>Diapositiva 1</dc:title>
</cp:coreProperties>
</file>