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13A013F6-3060-4694-836F-30068990B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3DF515A8-11EF-41A3-914C-82EDC9833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68D4DAB-9116-4AC3-8D61-6E525C44B9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0F07B6C7-77F2-4064-9272-4DA6B2BC7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4D4-B9CA-4210-B043-4176A838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276-6C8B-4667-B836-90A3B5B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657-CB14-4C53-91DC-0D7CE1F4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B61-2DAE-4986-B3AA-A36D71AA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C034-87B1-447A-AB62-2F0F127B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3D11-D090-4132-AC2E-FE5512AA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2D51-B55F-43EE-A23A-94062734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45A-CBB8-448B-94C8-BA08DEED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2F64-8405-4ACF-B5E7-DCEE4289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A531-3FC8-43D0-9D43-E669D76D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ED9-ABE9-4EB1-8985-928999E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BD1-7D3F-4C50-A27C-BDBD9575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10D9-E449-4BC8-84A0-330005C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DFE9-27D1-4A8C-B2B0-B13D3E86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ACBE-3635-4814-A7A3-6F2608D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731A-A8FF-41AA-BED1-B78CADF9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A028-AD9F-466F-AD48-868A6C20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2292-59EB-4454-8037-74127492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404F-0183-44DB-82C4-9484100E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EE5B-4A27-490C-8BC2-C1FA511F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9E54-DD2B-4B54-B495-8CF0DF1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2F0A-40C6-4101-AF2C-57FC346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A57-E09D-4243-B9AB-FBFC49F0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91B35-8427-4BB0-BA38-2CE85DD5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B702-2BB2-4D35-ADAF-CA934B2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428C-AD1A-4DEC-A297-8796D561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5E09-109A-41C9-AF59-3F303E1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4432-F8AA-4EC6-9BA3-176ADA77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2680-2F4C-4234-B261-04957D57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EC9F-A949-4BC3-8CE9-EBC95563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E4AD-838A-4C09-BB57-B6B10A2A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9F1D-8B5C-4D80-90C9-18432F24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292A-6DE6-4DA3-A064-B3EEF71C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426-DDB3-4B85-9C68-368B52B3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F5547-6901-4C84-94F0-DC59541F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4D290-314F-4CA2-8B4A-CAD4C213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4FFD-9C8B-46E5-B89C-74F2E2F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CF8F-394E-49B0-B847-294B7DA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46D1-C341-41B1-B972-8361EB2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22DB-CF55-4A6E-8231-D1FB6C0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3700-A3A8-41FB-BC73-32007581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7DF8-102D-468C-ADA0-FDAC0BDE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D3069-740D-4E25-A902-D08C489A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FEF-3C6F-49E8-BAA4-6A18FDD1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1DA-ED73-42EC-80A3-5143450B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774-D516-4E85-B7BE-3FDD4FF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57F-5FA8-4BEA-B2D1-C9B22B3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BAB-D2FC-407D-AEDA-44A49ED4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3F10FC1-A630-4EA9-83CB-3A239E10B7C7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73D536D-E05A-49F5-A22F-BCB3EA87423A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B946637-C7A1-467C-8F14-54528AC2B6CD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/>
            <a:ahLst/>
            <a:rect l="l" t="t" r="r" b="b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D9BDA2D-0BC7-42DB-88BF-66FC0B36814A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584360" y="471600"/>
            <a:ext cx="7020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7200" spc="-1" strike="noStrike">
                <a:solidFill>
                  <a:srgbClr val="355e00"/>
                </a:solidFill>
                <a:latin typeface="Bodoni MT Black"/>
              </a:rPr>
              <a:t>Tipologie Can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541188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605800" y="900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://2.bp.blogspot.com/-uzRYWfZAUqQ/UAUwwdrgl8I/AAAAAAAACmE/4hJfeW_ffno/s1600/dog-breeds.jpg"/>
          <p:cNvPicPr/>
          <p:nvPr/>
        </p:nvPicPr>
        <p:blipFill>
          <a:blip r:embed="rId3"/>
          <a:stretch/>
        </p:blipFill>
        <p:spPr>
          <a:xfrm>
            <a:off x="1111320" y="1662120"/>
            <a:ext cx="74944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680000" y="1434960"/>
            <a:ext cx="4962600" cy="446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60360" y="900000"/>
            <a:ext cx="39592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ipologia Bracco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di forma prismatica, con muso a facce laterali parallele, salto naso-frontale poco segnato; orecchie grandi e piatte sulle guance; labbra superiori abbondanti che coprono il profilo inferiore della mandibola. Rappresentanti del Gruppo sono: Bracco italiano, Dalmata, Setter, Retrievers, Cock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737320" y="1042920"/>
            <a:ext cx="37796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pologia Lupo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a forma piramidale; orecchie erette e triangolari; muso allungato ed in rapporto di 1:1 col cranio; labbra superiori piccole e aderenti; dentatura con chiusura a forbice. Rappresentanti del Gruppo sono: Pastore tedesco, Pastore Belga, Chow Chow, Fox terri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2560" y="1763640"/>
            <a:ext cx="4789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e30</dc:creator>
  <dc:description/>
  <dc:language>en-US</dc:language>
  <cp:lastModifiedBy>MM</cp:lastModifiedBy>
  <dcterms:modified xsi:type="dcterms:W3CDTF">2014-04-01T08:41:23Z</dcterms:modified>
  <cp:revision>5</cp:revision>
  <dc:subject/>
  <dc:title>Diapositiva 1</dc:title>
</cp:coreProperties>
</file>